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575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6D14E7-005C-44F8-9562-9B294DDDF96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7CD0BA-CFF2-430A-B4DF-ADE1B7C5D17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B03E1F-4C71-41DA-A147-8E440972BEF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12C299-252E-410F-8990-B83F111C06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2A4E93-BE69-4E93-ADA6-C2AB7D59C4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2945-4663-474A-B8C0-99BE6C448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116C-2539-45EF-81D7-5AB39B243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5130-B14E-4D05-88E9-273BB81D8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015D-5862-4865-B591-FA609E0AD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BDD7-D957-4016-95EA-CC45D3C57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A9B0-542D-4C0E-AFCE-170A91181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3554-C30D-4573-879E-30510F1E6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CD9E-F056-4B83-8ADC-91343A1A6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59BD-AAAE-48E1-A609-775B8047D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11B2-6B24-4E91-8A1D-9DEF7BDF9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4333-A09B-4EEB-9661-69E9A50E9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E50E-BEB9-4B6F-B5D7-AFBEE325B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2E7E-1E44-438F-BEAC-4B525AC67EBC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200160" y="2698920"/>
            <a:ext cx="864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Антимонопольный компла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в ФА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260360" y="1989000"/>
            <a:ext cx="788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Arial"/>
              </a:rPr>
              <a:t>ФЕДЕРАЛЬНАЯ АНТИМОНОПОЛЬН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867280" y="5013360"/>
            <a:ext cx="31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Начальник отдела проектов по развитию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Правов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М.Ю. Храм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9280" y="4749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з чего видно, что ни универсального определения, ни универсального контекста – нет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о из наиболее часто встречающихся в литературе определен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иск – потенциальные события, обстоятельства, внешние и внутренние факторы, влияющие на достижение поставленных целей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9C7-20B9-4F17-BDE4-3D93682C720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иск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т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тенциально возможные события, обстоятельства и фактор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оддающиеся определению и оценке, котор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лияют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наступление такого неблагоприятного события как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рушение антимонопольного законодательст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7DAA-0B07-416E-ABE3-09B6CE8FFF2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этапы антимонопольного комплаенс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Основные этапы внедрения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антимонопольного комплаенса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рганизу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истему работы (издание правового акта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ля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комплаенс-риск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Работаем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комплаенс-рискам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цениваем эффектив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оделанной работ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ла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70C1-0E22-4114-B3A6-1FAE7044842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937-9133-414A-8208-5F22FDDD5CE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firststepfitness.ru/images/pictures/complex_lech_form_8.jpg"/>
          <p:cNvPicPr/>
          <p:nvPr/>
        </p:nvPicPr>
        <p:blipFill>
          <a:blip r:embed="rId1"/>
          <a:stretch/>
        </p:blipFill>
        <p:spPr>
          <a:xfrm>
            <a:off x="324000" y="981000"/>
            <a:ext cx="2649240" cy="1335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539640" y="2397240"/>
            <a:ext cx="8064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щественный совет при Ф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ценка эффективности организации и функционирования антимонопольного комплаенса в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Уполномоченное подраз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авовое 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ятельность по организации, обеспечению контроля и анализа эффективности антимонопольного комплаенса в ФАС Росс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совместно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 Контрольно-финансовым управлени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оординация взаимодействия Уполномоченного подразделения с Коллегиальным органо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ением государственной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оведение служебных проверок и расслед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16320" y="10922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68200" y="889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C649-C7C8-47EF-A935-5A6262F82A1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1042920" y="175428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039000" y="1765440"/>
            <a:ext cx="194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щественный совет при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042920" y="367812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ав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7"/>
          <p:cNvSpPr/>
          <p:nvPr/>
        </p:nvSpPr>
        <p:spPr>
          <a:xfrm>
            <a:off x="1049400" y="4597560"/>
            <a:ext cx="19429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трольно-финанс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1049400" y="5511960"/>
            <a:ext cx="1938240" cy="869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правление государственной служ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22"/>
          <p:cNvSpPr/>
          <p:nvPr/>
        </p:nvSpPr>
        <p:spPr>
          <a:xfrm>
            <a:off x="1932120" y="2679840"/>
            <a:ext cx="168120" cy="99540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23"/>
          <p:cNvSpPr/>
          <p:nvPr/>
        </p:nvSpPr>
        <p:spPr>
          <a:xfrm>
            <a:off x="2987640" y="2103480"/>
            <a:ext cx="3051360" cy="1666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ьная выноска 24"/>
          <p:cNvSpPr/>
          <p:nvPr/>
        </p:nvSpPr>
        <p:spPr>
          <a:xfrm>
            <a:off x="3635280" y="3251160"/>
            <a:ext cx="4348080" cy="3328920"/>
          </a:xfrm>
          <a:prstGeom prst="wedgeEllipseCallout">
            <a:avLst>
              <a:gd name="adj1" fmla="val -84208"/>
              <a:gd name="adj2" fmla="val -67629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А 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арты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лючевых показателей эффективности антимонопольного комплаен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плана мероприятий («дорожной карты») по минимизации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доклада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25"/>
          <p:cNvSpPr/>
          <p:nvPr/>
        </p:nvSpPr>
        <p:spPr>
          <a:xfrm>
            <a:off x="3132000" y="1042920"/>
            <a:ext cx="4032360" cy="689040"/>
          </a:xfrm>
          <a:prstGeom prst="wedgeEllipseCallout">
            <a:avLst>
              <a:gd name="adj1" fmla="val -44412"/>
              <a:gd name="adj2" fmla="val 10368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6" descr=""/>
          <p:cNvPicPr/>
          <p:nvPr/>
        </p:nvPicPr>
        <p:blipFill>
          <a:blip r:embed="rId1"/>
          <a:stretch/>
        </p:blipFill>
        <p:spPr>
          <a:xfrm>
            <a:off x="139680" y="1719360"/>
            <a:ext cx="701640" cy="479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8"/>
          <p:cNvSpPr/>
          <p:nvPr/>
        </p:nvSpPr>
        <p:spPr>
          <a:xfrm>
            <a:off x="8290080" y="1763640"/>
            <a:ext cx="671400" cy="47721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Оценка эффективности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онтроля налоговых орган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адр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труктурные подразделения центрального аппарата (анализ внутренних документов ФНС, которые могут повлечь нарушение антимонопольного законодательства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ФНС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ACB-3322-48DD-B7F8-A5F0DD59B17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комсвязь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оветник Министра цифрового развития, связи и массовых коммуникаций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комсвязи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482-1516-41CD-B8AE-E056E131640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ироды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тдел внутреннего финансового ауди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ироды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ED26-A949-4354-A418-7BA89FE1846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омторг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Департамент стратегического развития и корпоративн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омторг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69E7-0C54-4D0C-802E-B7148901118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строй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дминистративно-кадровый аппара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стро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28E0-A43A-4BDB-927C-9768095C6B4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имонопольный комплаен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авовых и организационны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направленных на соблюдение требований антимонопольного законодательства и предупреждение его наруше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ставляет собой элемен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управления рисками (риск-менеджмент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разработанный в целях предотвращения наступления рисков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3854-F5CD-4B29-A1D0-66415EB8FF7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а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руктурные подразделения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департамент (служебные проверки, коррупция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транс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6E09-CF39-4724-92C6-63FA38809C2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ы (отделы) Министерства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правовой и международной деятельности (свод и доклад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миссия по внутреннему контролю за соблюдением соответствия деятельности Минтруд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5049-ECF7-4935-A381-6AA991036E6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кономразвития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конкуренции, энергоэффективности и эколог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управления делам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экономразвит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114-542C-48DE-8904-F8E2C06F60A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нерго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ридический департамен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служб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административной и законопроектной работ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энергетическ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аслевые структурные подразделения (выявление комплаенс-рисков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Министр, заместители Министра, директор Юридического департамен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4304-9AB1-4885-AEEE-5FC91178E33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Рос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правление планирования, взаимодействия с регионами и контрол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 формируется приказо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215F-3D74-4CD5-B27B-1C1C794DAB8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35ED-A8BA-4B9A-BE6B-836108CDFD6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нтимонопольный комплаенс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24000" y="2602080"/>
            <a:ext cx="82087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дентификация,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анализ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 сравнительная оценка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Составление и описание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арты 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плана мероприятий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(«дорожной карты»)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 снижению комплаенс-рис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дготовка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Доклада об антимонопольном комплаен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Мониторинг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антимонопольного комплаенса на предмет его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совершенств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2592360" cy="1578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771640" y="109692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Уполномоч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и оценка комплаенс-риск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Антимонопольным комплаенсом ФАС России предусмотрено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ыявленные комплаенс-риски отражаются в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рте комплаенс-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 карте комплаенс-рисков комплаенс-риск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ражаются в порядке убыва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уровня комплаенс-рисков (4 уровня)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присвоение соответствующего уровня комплаенс-риску осуществляется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 результатам оценки комплаенс-рисков, включающей в себ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дентификацию, анализ и сравнительную оценку комплаенс-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2566-1837-44CA-AACB-0363263838F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.15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дентификация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процесс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хождения, распознавания и описания риск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ель данного шаг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ить исчерпывающий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писок 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событий, которые могут повлиять на наступление негативного событ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идентификации, упоминаемые в национальных стандартах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анализ контрольных листов, анализ экспериментальных данных, а также данных и событий, произошедших в прошл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индуктивные методы, такие как HAZOP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диаграмма «галстук-бабочка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описание опасных событи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мозгового штурм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Дельф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225C-8860-4E91-BC1C-6BA98E9DA0D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276E-05E0-42D1-B0FB-BAB71860D4D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124000" y="100980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для идентификации (выявления) комплаенс-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30200" y="2502000"/>
            <a:ext cx="8677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алобы на нарушения административных регламенто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иведомственная апелляц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бщения судебной практ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ественная экспертиза действующих нормативных правовых актов и проектов нормативных правовых ак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общественных организаций и организаций научного сообщест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территориальных органов ФАС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000" y="928800"/>
            <a:ext cx="2565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A637-E7F3-44AC-8B73-0E09829DC84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2124000" y="1009800"/>
            <a:ext cx="69836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Некоторые комплаенс-риски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Arial"/>
                <a:ea typeface="Arial"/>
              </a:rPr>
              <a:t>(по предложениям структурных управлений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1440" y="98100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16000" y="236052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нятие решений, нарушающих единообразие практики ФАС Рос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рассмотрения ходатайств и поступивших на согласование соглашений хозяйствующих су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принятия решений по согласованию проектов предельных отпускных цен на лекарственные препар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ование   нормативных   правовых   актов   других   органов   власти, положения которых привели или могут привести к недопущению, ограничению, устранению конкуренции на товарных рын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ущение   процессуальных   нарушений   правил   рассмотрения разногласий и досудебных споров, которые могут привести к отмене судом итогов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я при закупках для хозяйственных нужд ФАС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менимые национальны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международные стандарт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ИСО/МЭК 3101 – 2011 Методы оценки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51901.23 – 2012 Реестр риска. Руководство по оценке опасных событий для включения в реестр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Международный стандарт ISO 31000 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22BE-BD29-45CE-8534-9C82B74E1C8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рианты действий при идентификации (выявлении) комплаенс-рисков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 иных ФОИ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группировать все нормы и запрет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установленные антимонопольным и смежным законодательством, контроль за соблюдением которого возложен на ФАС Росси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анализировать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труктурных (отраслевых) управлений через призму возможных нарушений ими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анализировать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цессуальные действ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осредством которых могут быть нарушены требования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8C7B-8B28-4C2D-AB96-5D6E0CA92B8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следовательно отвечая на вопрос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з антимонопольного законодательства может быть нарушено (группы антимонопольных запретов и огранич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где встречается, в работе каких управлений, подраздел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(или чем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через какой правовой механизм или процессуальное действие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2748-FB72-49A0-8608-9F6C0FABE4F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п. 2.21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ализ риск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роцесс понимани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ы риска и определения 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рис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нализ риска включает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оятности и 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дентифицированных опасных событий с учетом наличия и эффективности применяемых способов управления. Данные о вероятности событий и их последствиях используют для определения уровня риск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чников опасных событ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их положительных и отрицательных последствий и вероятностей появления этих событий. При этом должны быть идентифицированы факторы, влияющие на вероятность события и его последств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8FF1-F8AB-4A74-BE08-56AA6AAFB3B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имен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рицу последствий-вероятносте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представляет собо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средство объединения оценок последствий и вероятносте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и применяется для определения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мплаенс-риска (ранжирования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должна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ероят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вероятности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последствий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и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рисвоенные каждому значению матрицы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2819-E154-4433-A0B3-0C7AE1D45A0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рисков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935-C8CE-4721-ABF0-F9BF52BE606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43080"/>
          <a:ext cx="8075520" cy="4022640"/>
        </p:xfrm>
        <a:graphic>
          <a:graphicData uri="http://schemas.openxmlformats.org/drawingml/2006/table">
            <a:tbl>
              <a:tblPr/>
              <a:tblGrid>
                <a:gridCol w="2068560"/>
                <a:gridCol w="1958760"/>
                <a:gridCol w="2024280"/>
                <a:gridCol w="2023920"/>
              </a:tblGrid>
              <a:tr h="343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а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разнесение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 выявленных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процессе идентификаци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матрицу комплаенс-рисков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оставленную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ходе анализ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 такж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тано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рту комплаенс-рисков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порядке убывания уровня комплаенс-рисков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60C1-108A-41FA-9DBF-6BEB12362AC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в иных ФОИВ «разнесенные» на матрицу комплаенс-риски могли бы выглядеть та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2557-7A2F-4CBE-A8E0-78A60F059B9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133720"/>
          <a:ext cx="8229600" cy="4162320"/>
        </p:xfrm>
        <a:graphic>
          <a:graphicData uri="http://schemas.openxmlformats.org/drawingml/2006/table">
            <a:tbl>
              <a:tblPr/>
              <a:tblGrid>
                <a:gridCol w="1547640"/>
                <a:gridCol w="2040120"/>
                <a:gridCol w="2320920"/>
                <a:gridCol w="2320920"/>
              </a:tblGrid>
              <a:tr h="21204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5, 16 Закона о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821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7, 17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в адрес территориальных органов, а также неопределенного круга лиц неправомерных разъяснений и иных документов властного характе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87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0, 14.1-14.8, 11, 11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8, 19-2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чные заявления, основанные на позиции, противоречащей антимонопольному законодательств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рте комплаенс-риск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длежат включению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порядке убывания уровня 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ыявленные и проанализированные в ходе оценки комплаенс-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 карту комплаенс-рисков ФАС России подлежат включению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ыявленн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их описание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ич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CD1-EFA2-461A-B72B-1E6E91AEFB0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карта комплаенс-рисков ФАС России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253C-4C9A-4A64-8A00-644B64FA424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889280"/>
          <a:ext cx="8229600" cy="3948120"/>
        </p:xfrm>
        <a:graphic>
          <a:graphicData uri="http://schemas.openxmlformats.org/drawingml/2006/table">
            <a:tbl>
              <a:tblPr/>
              <a:tblGrid>
                <a:gridCol w="773280"/>
                <a:gridCol w="2049120"/>
                <a:gridCol w="2662560"/>
                <a:gridCol w="2744640"/>
              </a:tblGrid>
              <a:tr h="7887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иска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чины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ФАС России неправомерного решения, повлекшего за собой нарушение ст.ст. 15, 16 Закона о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шибочное применение материальных и процессуальных норм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подготовленность к процесс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координация процесса со стороны руководите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чрезмерная загрузка работ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Дорожная карта» мероприят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лан мероприятий («дорожная карта»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снижению комплаенс-риско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должен содержать в разрезе каждого комплаенс-риска (согласно карте комплаенс-рисков ФАС России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кретные мероприятия, необходимые для устранения выявленных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утверждается руководителем ФАС России в сро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озднее 31 декабря год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шествующему году, на который планируются мероприят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информация об исполнении «дорожной карты» подлежит вклю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доклад об антимонопольном комплаенс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DC29-334F-4643-86F6-DE0A00403C1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ждународный Стандарт ISO 31000:200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ункт 2.1: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ск – Влияние неопределенности на цел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1: Влияние рассматривается как отклонение от ожидаемого — с позитивными или негативными последствиям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2: Цели могут иметь различные аспекты (такие как финансовые; аспекты, касающиеся профессиональной безопасности и здоровья; экологические задачи) и могут относиться к различным уровням (таким как стратегический уровень, организационный, уровень проекта, продукции и процесса)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3: риск часто характеризуется отношением к потенциальным событиям (2.19) и последствиям (2.20) или сочетанию данных пунк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4: риск часто выражается в комбинации последствий событий (включая изменения в обстоятельствах) и связанной с ними вероятности (2.21) инциден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5: неопределенность — это состояние, также частично, отсутствия информации относительно понимания или знания события, его последствий или вероятност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C99E-DA54-4AF9-88D2-AC82AFB0BC5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дставля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Общественный совет при ФАС России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ок -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 позднее 01 апреля год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едующего за отчетны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жен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) информацию о результатах проведенной оценки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) информацию об исполнении мероприятий по снижению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) информацию о достижении ключевых показателей эффективности антимонопольного комплаенс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F5B5-7317-4D35-A854-7943621A8E7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066680" y="755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СПАСИБО ЗА ВНИМАНИЕ!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2644920" y="2631960"/>
            <a:ext cx="4343400" cy="2179800"/>
            <a:chOff x="2644920" y="2631960"/>
            <a:chExt cx="4343400" cy="2179800"/>
          </a:xfrm>
        </p:grpSpPr>
        <p:pic>
          <p:nvPicPr>
            <p:cNvPr id="232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2797200" y="2631960"/>
              <a:ext cx="53316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2797200" y="3405240"/>
              <a:ext cx="533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644920" y="4038480"/>
              <a:ext cx="8380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8"/>
            <p:cNvSpPr/>
            <p:nvPr/>
          </p:nvSpPr>
          <p:spPr>
            <a:xfrm>
              <a:off x="3505320" y="27018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www.fas.gov.ru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3505320" y="34146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FAS-boo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3505320" y="4108680"/>
              <a:ext cx="348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rus_f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молог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староитальян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icar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тваживаться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француз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qu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пасность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грече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ziko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утес», «скал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2B62-CA20-4D59-AE0F-540A2054509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непредвиденных потерь ожидаемой прибыли, дохода или имущества, денежных средств, других ресурсов в связи со случайным изменением условий экономической деятельности, неблагоприятными обстоятельствами. Измеряется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частотой, вероятностью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зникновения того или ин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терь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Райзберг Б.А., Лозовский Л.Ш., Стародубцева Е.Б. «Современный экономический словарь»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840F-31AF-4457-9D93-55F95BACB96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Следует отделять от смежных понят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ероятность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благоприятных исходов к общему числу возможных исход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Шансы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числа благоприятных исходов к числу неблагоприятны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Угроз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это неисследованное негативное событие, которое затруднительно оценить при оценке риска, потому что это событие никогда не происходило, и по нему не доступна никакая информация о эффективных профилактических мера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4B80-9DFC-4090-AB6C-311C906F4FC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тандарт Банка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«Обеспечение информационной безопасности организаций банковской системы Российской Федерации. Общие положения» СТО БР ИББС-1.0-2014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0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гроза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полагающая возможность потерь (ущерба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1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иск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Мер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учитывающая вероятность реализации угрозы и величину потерь (ущерба) от реализации этой угрозы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F865-7344-4E65-9B9D-741780787B6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каз Президента РФ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т 31.12.2015 № 683 «О Стратегии национальной безопасности Российской Федерации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56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лавными стратегическим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угрозами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национальной безопасности в области экономики являются ее низкая конкурентоспособность, сохранение экспортно-сырьевой модели развития и высокая зависимость от внешнеэкономической конъюнктуры..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4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… На фоне структурных дисбалансов в мировой экономике и финансовой системе, растущей суверенной задолженности, волатильности рынка энергоресурсов сохраняется высокий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риск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повторения масштабных финансово-экономических кризис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5556-0834-4F47-AEA9-1DF98412B0E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Кашунина Ирина Валерьевна</dc:creator>
  <dc:description/>
  <dc:language>en-US</dc:language>
  <cp:lastModifiedBy>Бабошина Алина Олеговна</cp:lastModifiedBy>
  <cp:lastPrinted>2018-10-05T11:20:15Z</cp:lastPrinted>
  <dcterms:modified xsi:type="dcterms:W3CDTF">2019-01-25T11:13:07Z</dcterms:modified>
  <cp:revision>1921</cp:revision>
  <dc:subject/>
  <dc:title>Слайд 1</dc:title>
</cp:coreProperties>
</file>